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A6A2-8D5C-4563-9E67-6D1C87C7A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299F-7306-41C0-AD8F-BA37612C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BCF2-02F3-43A7-A2DB-229EB8F94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ACD1-F98F-41FD-8990-36D7B97C9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688F-D45D-46F5-BE70-16B90FD7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0790-A2A0-43AE-B356-72A9405C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7905-F33F-4908-A7D4-3850332A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C5BF-0053-4BC8-8192-F4E000C1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9484-19D9-4D59-8F4F-D599133A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40E7-E4ED-4157-A524-5757CE15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C8A2-2CC2-4E3C-85B3-9334E438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AE3A-6D0D-4757-BC19-E16E4224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5080-20F8-486B-BF21-3BE03C30C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Handtools.wmv" TargetMode="External"/><Relationship Id="rId2" Type="http://schemas.openxmlformats.org/officeDocument/2006/relationships/hyperlink" Target="file:///Handtools.wmv" TargetMode="External"/><Relationship Id="rId3" Type="http://schemas.openxmlformats.org/officeDocument/2006/relationships/hyperlink" Target="file:///Handtools.wmv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2.nsc.org/library/facts/agritool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fe Use of Hand Too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s have always been indispensable helpmates, and a good set of hand tools is essential for any farm shop, machinery or facility repair. Unfortunately, tools also contribute to countless injuries when used incompetent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correct tool for the job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tools in good condition. Handles should be tight and free from defect. Cutting tools should be kept sharp. Wedges and punches should be free from "mushroom heads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nd maintain power tools according to their instruc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power tools are properly grounded or are double insulated. Never cut the three-prong plug off or use a two prong adap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4572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 off and unplug power tools before changing blades or servicing and repair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r clothing with no strings or loose ends to catch on thing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r appropriate personal protective equipment (PPE), such as glasses, goggles, dust masks, face shields, hearing protection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bystanders at a safe dist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all guards and shields in place. Learn to use a "push stick" with table saw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plug and put tools away after use. Consider locking out power tools to prevent others from using them without permission, especially young childr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pe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ools in safe condi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instruction manuals availab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power tools properly ground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guards and shields in plac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PPE availab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ools put away and properly stor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lideshow on different types of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andtools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know how they work before using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ware of any safety precautions that must be ta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notice a problem with a tool, report it to your supervi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14:20:53Z</dcterms:created>
  <dc:creator>user</dc:creator>
  <dc:description/>
  <dc:language>en-US</dc:language>
  <cp:lastModifiedBy>user</cp:lastModifiedBy>
  <dcterms:modified xsi:type="dcterms:W3CDTF">2009-01-28T14:59:12Z</dcterms:modified>
  <cp:revision>2</cp:revision>
  <dc:subject/>
  <dc:title>Hand Tools</dc:title>
</cp:coreProperties>
</file>