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EFE-975B-42FB-86CF-AC05A349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0B1-3C20-4487-A198-52AD9ABF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4B3-459C-4E5E-9527-4D2741B3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734-5A19-47C8-B2D5-84A8E7F7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2EF-650D-4A64-813B-9F914375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0E3-E51B-4220-9772-9214123A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887-92BC-47AC-86F9-7601DE45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E05-F0AD-4899-849E-1BA4705E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298-805E-4F10-9B3D-2AA5B92D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35B-9AA4-4D29-A0A1-6291E55F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839-4446-4D40-A43F-EA974628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4B2-28B5-4B65-BEE3-10C2B73C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20B5-BE49-4785-8A6A-7BFABA985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Handtools.wmv" TargetMode="External"/><Relationship Id="rId2" Type="http://schemas.openxmlformats.org/officeDocument/2006/relationships/hyperlink" Target="file:///Handtools.wmv" TargetMode="External"/><Relationship Id="rId3" Type="http://schemas.openxmlformats.org/officeDocument/2006/relationships/hyperlink" Target="file:///Handtools.wm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2.nsc.org/library/facts/agritool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 Use of Hand Too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have always been indispensable helpmates, and a good set of hand tools is essential for any farm shop, machinery or facility repair. Unfortunately, tools also contribute to countless injuries when used incompeten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orrect tool for the jo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ools in good condition. Handles should be tight and free from defect. Cutting tools should be kept sharp. Wedges and punches should be free from "mushroom heads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d maintain power tools according to their instru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power tools are properly grounded or are double insulated. Never cut the three-prong plug off or use a two prong adap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power tools before changing blades or servicing and repai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clothing with no strings or loose ends to catch on th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appropriate personal protective equipment (PPE), such as glasses, goggles, dust masks, face shields, hearing protection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bystanders at a safe d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ll guards and shields in place. Learn to use a "push stick" with table saw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lug and put tools away after use. Consider locking out power tools to prevent others from using them without permission, especially young childr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e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ools in safe condi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struction manuals avail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power tools properly ground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uards and shields in pla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PE avail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ools put away and properly stor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lideshow on different types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ndtool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now how they work before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ware of any safety precautions that must be t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notice a problem with a tool, report it to your supervi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20:53Z</dcterms:created>
  <dc:creator>user</dc:creator>
  <dc:description/>
  <dc:language>en-US</dc:language>
  <cp:lastModifiedBy>user</cp:lastModifiedBy>
  <dcterms:modified xsi:type="dcterms:W3CDTF">2009-01-28T14:59:12Z</dcterms:modified>
  <cp:revision>2</cp:revision>
  <dc:subject/>
  <dc:title>Hand Tools</dc:title>
</cp:coreProperties>
</file>