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7EF-4E1D-49B4-A17B-5A73497D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D88-D7A8-4995-B530-81257041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92F-3A58-43B9-B4F3-AEC4F590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3C4-DC8F-4E37-801A-7273AE8B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E48-E792-4437-BBE3-EA1EEB5D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DC4-37AF-41BC-8FCF-C984D28B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927-377A-4CBD-ABED-C43E8BD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957-3AED-4782-889E-4A6B08C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4D3-6722-4D91-89F0-9452F4E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F31-8DE7-4142-94E7-FCBC7AF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D87-4FD1-472C-8335-8528884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71-8C44-4197-BCED-3425395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A0D7-341C-432E-8C29-EF222535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andtools.wmv" TargetMode="External"/><Relationship Id="rId2" Type="http://schemas.openxmlformats.org/officeDocument/2006/relationships/hyperlink" Target="file:///Handtools.wmv" TargetMode="External"/><Relationship Id="rId3" Type="http://schemas.openxmlformats.org/officeDocument/2006/relationships/hyperlink" Target="file:///Handtools.wm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2.nsc.org/library/facts/agritoo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Use of Hand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have always been indispensable helpmates, and a good set of hand tools is essential for any farm shop, machinery or facility repair. Unfortunately, tools also contribute to countless injuries when used incompet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tool for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ools in good condition. Handles should be tight and free from defect. Cutting tools should be kept sharp. Wedges and punches should be free from "mushroom heads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maintain power tools according to their instru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power tools are properly grounded or are double insulated. Never cut the three-prong plug off or use a two prong adap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power tools before changing blades or servicing and repai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clothing with no strings or loose ends to catch on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propriate personal protective equipment (PPE), such as glasses, goggles, dust masks, face shields, hearing protection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bystanders at a safe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guards and shields in place. Learn to use a "push stick" with table sa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and put tools away after use. Consider locking out power tools to prevent others from using them without permission, especially young child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in safe condi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struction manuals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ower tools properly ground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uards and shields in pl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PE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put away and properly sto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ideshow on different type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tool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now how they work before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any safety precautions that must be t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otice a problem with a tool, report it to your supervi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20:53Z</dcterms:created>
  <dc:creator>user</dc:creator>
  <dc:description/>
  <dc:language>en-US</dc:language>
  <cp:lastModifiedBy>user</cp:lastModifiedBy>
  <dcterms:modified xsi:type="dcterms:W3CDTF">2009-01-28T14:59:12Z</dcterms:modified>
  <cp:revision>2</cp:revision>
  <dc:subject/>
  <dc:title>Hand Tools</dc:title>
</cp:coreProperties>
</file>