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522-CB87-4EB5-9D92-46A2E5C7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2DC-7D76-4CE9-8A9E-218F3454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9E2-DA7B-4C83-883F-BEB0FFE1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EDC0-A15E-4219-BCED-1C788107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BA44-6A36-4A2F-9087-DF7F69AC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6D1-48AB-4D35-8299-898106BC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67A3-D0EE-40C2-B82F-2AA4BCB8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FB1-CD07-4C1D-AA04-F61D6D87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1CD-30E9-4106-857A-11C4D2DF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43A-ECFD-4357-B67A-CA2AEEA1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B7A-C915-4CD1-9070-67DCDE8E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C3C-5D8F-4022-8890-95DD3263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9BC5-2E0C-4116-8401-666DE1264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Handtools.wmv" TargetMode="External"/><Relationship Id="rId2" Type="http://schemas.openxmlformats.org/officeDocument/2006/relationships/hyperlink" Target="file:///Handtools.wmv" TargetMode="External"/><Relationship Id="rId3" Type="http://schemas.openxmlformats.org/officeDocument/2006/relationships/hyperlink" Target="file:///Handtools.wmv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2.nsc.org/library/facts/agritool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 Use of Hand Too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have always been indispensable helpmates, and a good set of hand tools is essential for any farm shop, machinery or facility repair. Unfortunately, tools also contribute to countless injuries when used incompetent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orrect tool for the jo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ools in good condition. Handles should be tight and free from defect. Cutting tools should be kept sharp. Wedges and punches should be free from "mushroom heads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d maintain power tools according to their instru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power tools are properly grounded or are double insulated. Never cut the three-prong plug off or use a two prong adap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power tools before changing blades or servicing and repai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clothing with no strings or loose ends to catch on th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appropriate personal protective equipment (PPE), such as glasses, goggles, dust masks, face shields, hearing protection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bystanders at a safe d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ll guards and shields in place. Learn to use a "push stick" with table saw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plug and put tools away after use. Consider locking out power tools to prevent others from using them without permission, especially young childr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ools in safe condi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instruction manuals avail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power tools properly ground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guards and shields in pla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PE avail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ools put away and properly stor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lideshow on different types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andtool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now how they work before us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ware of any safety precautions that must be t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notice a problem with a tool, report it to your supervi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4:20:53Z</dcterms:created>
  <dc:creator>user</dc:creator>
  <dc:description/>
  <dc:language>en-US</dc:language>
  <cp:lastModifiedBy>user</cp:lastModifiedBy>
  <dcterms:modified xsi:type="dcterms:W3CDTF">2009-01-28T14:59:12Z</dcterms:modified>
  <cp:revision>2</cp:revision>
  <dc:subject/>
  <dc:title>Hand Tools</dc:title>
</cp:coreProperties>
</file>